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830-E79B-4255-B290-70E0A148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A33-55B8-4B23-8653-A9940BF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2A322-15C4-47E3-9B7E-790DB223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D70C1-1171-4E2F-8F27-FAE5127B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867E4-6F26-4510-87CD-B1572C7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7F24-FA0C-4EE5-BD99-1BB4485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D8AFC-F2CE-481C-8679-1F4B963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00DB7-5363-4862-90EE-CAD0FB9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8D689-AE1E-488E-8F5D-61215A9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FFC5D-BBFA-47CF-A0D2-8EB170AE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86F45-9D09-4A21-ABD8-3B0CC0F9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91BE-DC45-49E8-A360-3FEAABEC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B7E-BC2D-4FE8-AA68-C4484B79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06BDB-D3A2-4D3C-A540-BE7F7A3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08180-EDB1-477F-9B8B-A3B88A4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3683B-80F9-4D07-9332-364222FD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80619-46CA-4370-B111-BA3526A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6AF91-0655-4C07-9153-B0A4E633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E322F-270D-43FC-B76F-1370517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E6440-1624-445C-8832-B8E68F1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ACB77-459F-4BA2-B1E7-850F5E6E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559D7-DCF4-4F35-9B5A-3336E26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FDF9A-22E4-45AC-98E4-6BA1905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241-A875-4C4E-804A-5DF1643E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B95E8-86FD-4882-ABF2-51CA967B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09F9-4542-4A05-9B90-0E9DA6E3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6E9F1-33B4-4B5F-B509-3C08724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2195-DB3B-4EF2-94A2-02F167E2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34DE-6640-4EC4-9145-94FBEEC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0207-F59F-4F69-8A24-BA1472B3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5736F-17F4-4971-8284-9DB07CA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AFC62-2302-4B99-B45B-F790DF6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9AC4-B4E2-4BE3-B3BC-1EC13A7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E07D-61E5-4EC3-AA7C-1E86214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BE1-ADED-4742-9384-9E9DC25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AED2D-52C0-4021-854D-4D6127D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0BA1D-128C-487C-AEAF-B9D6980F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B8444-72B2-49CD-AD37-7105FB20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FA09A-307E-4E45-903F-5FF12053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4D546-B323-4AF4-AFCC-838F742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09B04-A6EB-4599-B8A9-2AC39DD1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F1751-96DF-47BF-AD95-578A593C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236CF-7705-41A2-8BCD-DC51D9A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2C95B-6682-4773-B280-FA3CEF3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87669-6264-4F81-A036-48B3CFF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1488-8978-448E-907D-B76319D5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C7043-6101-4078-AB35-4AB35D3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19F0E-EBB1-4198-8C0D-4274517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632B7-7C75-463D-944A-6DE66DB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F6ACA-2816-408B-A3D0-C9235B5D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09D78-564C-4393-8731-03028F3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C89-7509-468D-BE5D-EB600B4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04B5-5255-4A65-9900-E0637C2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249-0FFD-400C-BFF7-31C4EB9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AD3-9142-4984-A109-7B4BF94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2A4F-8293-4219-9543-641D44B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E9A-EA0E-4D45-9374-C995253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A9C5-19F2-445D-9E9B-297A4AD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DD96-2017-4B2F-865B-3DD8A7C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0C6-1677-4F49-97E6-A2725C61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2561-66EB-40E9-99E6-E83786B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B03-DF7C-4EAA-9F78-47103B6E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368F-C2AD-4ECE-B8F8-02A8E721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E82C-2BA9-4A8F-BB51-BC69B6B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E1A5-4CE5-495E-A9B5-4458408B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EF6D-2149-43BD-ADAB-4E2AE16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F22F-337D-4803-ADB4-9E8DA00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397-5081-4B8C-97A4-9273D37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FEAB-1F47-4F9E-9400-43DC4B3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8091-2F64-4DA7-83CC-057D099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5558-4C0E-4201-A390-CA423FF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4F61-B78A-45F6-83ED-96C91E1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C324-E605-4222-B403-FB0E4AB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CCEC-2AFB-4BF3-94C6-698312CC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2A08-0A96-4FF2-BAE1-46C9D69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3FB8-59DF-4955-9371-76F8655C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7927-53AA-4CEF-8AA7-E82AC55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E2F7-D046-47FC-9601-6857B6E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08E-C80B-41C2-9392-D468970A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AF14-016D-4BE7-90F4-DB2074F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E562-4EF9-4BA4-A942-0FE2E6F1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D9BD-EF2B-4AFF-A4DD-D7D5DB9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2416-7F99-444A-B52D-C05C5A8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5D42-ADB1-4C53-A063-7904D79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71F5-12D9-4727-8EF1-BB2A067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A5F0-DC1C-426C-BB7F-3973ACC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E4BC-6A92-4655-B1EE-50DAF34C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8889-68E4-4BAF-98CF-5141D581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2BC5-9FFA-49D3-88A3-BBC2FAC6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5E6-CFD1-439A-BB21-2454549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FCE5-16C0-4D2D-81F0-07274B2C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37D4-F901-4652-B726-03392B1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375C-259A-413B-A9C0-8742640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8888-2B76-4584-9E4E-F692EE3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2A4D-0977-4373-B3F5-25F47D4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9300-4F0E-424F-8001-4A6F0C5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F375-DD82-4304-A418-77CCB3A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9799-A82B-4A13-8A84-091E9B8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9415-E810-4D22-A177-455ED7A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279F-72B4-4FA0-96E5-F1799B3D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BE5-082B-4CC5-A1BF-3CCC316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5EC9-E74C-4EFF-A335-674C324C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21CC-4435-408D-B768-72873214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CA54-300C-488C-AE0D-897A281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3CE25-E36F-4494-A739-1F0BFA1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FE52-E062-4D03-AD7E-2F466DA3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CA12-027A-40D4-BC71-D6CF292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8996-1C86-430D-8DAA-DBEB4E1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F055-BA97-4912-82D7-AEF6B13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E98B-E78F-466E-94BC-84B835F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66415-302C-4847-BC0A-35E8B5A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82E-C5EF-42F0-A436-0945356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657E-06A2-4151-9188-B0A6464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D5C6-F2DE-4E1E-AF88-E694A27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A5691-5C1A-4F64-B091-A05A54A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4EC0-7816-45C7-B408-2ADA8935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7A7B-FCF9-4C51-AD34-EEFFF50D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1E0D-9E8A-4FA8-9287-3973DFD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FF71-BFE1-4A8A-B330-13A91C5A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2915-7102-405A-A662-D9927AF4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7A0F-86CA-48D8-9EC5-9A998A8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A2618-34C0-41F9-A1B3-33A7FAB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EB8-231F-446C-BBD0-F5DD3730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6087-D1CE-4BFB-8C93-3C5A863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56EE-E5AD-4345-8A8D-608B0DB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20FB-C851-475F-918D-C57ACA3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1D50-F774-42E2-835F-9AA1242D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8A85-52C2-45B3-BF4B-B9B8345D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97F42-B99E-4F1A-8798-5F5706DB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0DE1-1193-4DCF-8F9E-9C32C4D2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8BE9-9985-4111-9829-73519003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7684-6902-4355-AD36-2955A84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1406-1E5B-4887-B76E-564D365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9A8-2023-45AB-A30F-B27AED0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FE10-0AB2-457B-9D7D-AD70AC8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F199-0C62-44A7-B9D5-0AE081A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BF3D-E49C-4A53-82BB-E55935A5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8A36-024D-4F89-AAE1-7001663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38DC-34AE-485C-A23D-398D2785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B903-EDFB-4DAA-9C60-8E649F20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223A0-55CF-4C5D-A76F-78F952F0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657A-0E8F-4C91-B53B-ABB8982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9F548-49F6-42D0-8742-BE8596C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6A87-D353-491F-AC2E-0FAE285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9549-FF07-487D-AC8C-8E12CEA013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8E1-1A65-470F-A27D-6164B4124A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3146-505B-498D-AD52-14A5EA8CE9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A41-AE30-48A4-8644-17FC1E97CD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7F6-1FB4-4323-B4F0-2705FCCE37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087-9318-4ACD-8FC2-FEEB184B37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516-D6A6-4BE1-AC0D-8D556076BF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B65-1B6C-4942-A4BA-F772C2B770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16F-1F84-4349-92F9-0474B7D4D5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EEF1-E880-4931-8CBD-48AF3AC095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358-52DD-48AA-80C6-97A63D1FAE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C2A-EA9D-4471-BE6C-89A1C46528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4 Láska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á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st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d tvojím tró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môžem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je meno 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slavo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a večná,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ja nádej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z hriechu pú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š ma vytrhn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íťaziť dáš v 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o mnou, prosím, b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Ó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cieľu ma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 kde budem ve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ô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teba zr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útecha vždy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ľ, tráp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č ma ticho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áč ma cestou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lostivo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zemi som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útnik a h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do o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y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m raz voj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moc verná,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 prav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deš na zem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áč ma vziať do svoj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5:03Z</dcterms:modified>
  <cp:revision>22</cp:revision>
  <dc:subject/>
  <dc:title>Je veľký náš Pán, on slávy je Kráľ Nech do všetkých strán  spev vrúcnych znie chvál.</dc:title>
</cp:coreProperties>
</file>